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3BA8-3042-4B4D-9DB6-26A0A521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244A-AAA0-470C-A492-A75C95CB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55038-A2B4-4946-927D-43C04A8B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4E87-F4FC-4BB9-9ECC-29C4A8D7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75E-4438-4109-9329-E7BE6094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6B01-9B70-481D-94B5-0D3DF49E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4A76-8E03-420F-9E80-4188DF85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FCB2-FC46-4C59-84E6-DD3E40C9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D4C-319C-47D3-B228-2DAF50F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EC2B-88EB-47FF-9CA1-79050574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CFD-93A9-4E85-BAC5-3F10AAD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4218-DE03-4057-AE97-4A1F317A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A009-41B5-44E5-9B31-50FCC09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5759-6AD9-46B1-B58E-9660DE4D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F9A2-1126-4A43-9576-89A0B118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78C-BDCD-4277-8126-E1F815B7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13C7-A088-4ADC-B174-EEE0AF4A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D61A-0C2E-4BA2-8EA5-377F1B0C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9AE2-5E85-4816-B2C5-6C29C37D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DAC4-959C-4893-B981-F3A97DFB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62DB-54A3-4C40-8619-68E3433D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8112-1EA3-4D61-8B2B-2F5D271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F8AD-A0D2-4DFA-AB19-DE5F3B40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1F46-1DBB-464A-8979-786C348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5A2-C691-41B7-AA59-66EA76A91D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7CF8-6FF6-490C-BC37-A5F6B6FDF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ahoma"/>
              </a:rPr>
              <a:t>The Wright Brother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Alex, Kara, and Ab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Flig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airplane was flown in Kitty Hawk,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ok them three times to finally get the right airpla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right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ght Brother’s sister Ida died at thirteen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right Brothers brother Otis died at eighteen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7 children in the Wright Family but two of the children died at inf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right Cycle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Wright Brothers Invented the airplane they owned a bicycle repair shop and showroom called the Wright Cycl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right Cycle Company opened in 18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34844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415800"/>
            <a:ext cx="84582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1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5:18:31Z</dcterms:created>
  <dc:creator>Montour School District</dc:creator>
  <dc:description/>
  <dc:language>en-US</dc:language>
  <cp:lastModifiedBy>Montour School District</cp:lastModifiedBy>
  <dcterms:modified xsi:type="dcterms:W3CDTF">2008-05-22T13:08:28Z</dcterms:modified>
  <cp:revision>5</cp:revision>
  <dc:subject/>
  <dc:title>The Wright Brothers</dc:title>
</cp:coreProperties>
</file>